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jpeg" ContentType="image/jpeg"/>
  <Override PartName="/ppt/media/image8.gif" ContentType="image/gif"/>
  <Override PartName="/ppt/media/image7.gif" ContentType="image/gif"/>
  <Override PartName="/ppt/media/image5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8BF-DB32-4678-8BF3-2DFD925C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352-76B5-4AE7-8E60-85983E10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5D77-AC27-4003-856A-820E42F6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4BF2-F376-49A2-BC97-5A64A1FE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91A-614D-4777-B5D8-E1501299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76E-1EA4-467F-926B-C02B0013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03A1-1146-4BE8-AA67-2F466F89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67A5-C19C-4522-8497-1BAC37D9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56F-DC06-400B-A94F-B489F91E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2C6-5341-4CB9-AA44-26B8586E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833-D9C0-4604-BF77-F7DAAD7E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F3D-AAC3-4D6F-8B1D-E4A2FFBF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7CE5-0DAC-426C-AE57-0C1F4F47F937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utertomograph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eschichte der 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blem bei Röntgenbilde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 Tumor im Gehirn wird vom Schädelknochen verdeck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Erster Lösungsansatz: Angiogra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lum contrast="-10000"/>
          </a:blip>
          <a:srcRect l="0" t="0" r="0" b="6831"/>
          <a:stretch/>
        </p:blipFill>
        <p:spPr>
          <a:xfrm>
            <a:off x="1828800" y="3429000"/>
            <a:ext cx="5054760" cy="31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ff"/>
                </a:solidFill>
                <a:latin typeface="Arial"/>
              </a:rPr>
              <a:t>Geschichte der 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iograp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Macintosh HD:Users:ulrikebeer:Desktop:angiographie10.gif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3228840" cy="1676520"/>
          </a:xfrm>
          <a:prstGeom prst="rect">
            <a:avLst/>
          </a:prstGeom>
          <a:ln w="0">
            <a:noFill/>
          </a:ln>
        </p:spPr>
      </p:pic>
      <p:pic>
        <p:nvPicPr>
          <p:cNvPr id="71" name="Macintosh HD:Users:ulrikebeer:Desktop:angiographie20.gif" descr=""/>
          <p:cNvPicPr/>
          <p:nvPr/>
        </p:nvPicPr>
        <p:blipFill>
          <a:blip r:embed="rId2"/>
          <a:stretch/>
        </p:blipFill>
        <p:spPr>
          <a:xfrm>
            <a:off x="4848120" y="3657600"/>
            <a:ext cx="322920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7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2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eschichte der 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Grundidee der CT ist bei der Angiographie schon vorh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300" spc="-1" strike="noStrike">
                <a:solidFill>
                  <a:srgbClr val="000000"/>
                </a:solidFill>
                <a:latin typeface="Arial"/>
              </a:rPr>
              <a:t>Kombiniere Röngtenbilder aus verschiedenen Richtungen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62520" y="4113360"/>
            <a:ext cx="2438280" cy="0"/>
          </a:xfrm>
          <a:prstGeom prst="line">
            <a:avLst/>
          </a:prstGeom>
          <a:ln w="98280">
            <a:solidFill>
              <a:srgbClr val="ffff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hysikalische Grund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Absorptionsgese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1840" y="3427560"/>
            <a:ext cx="224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gangsintensitä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70840" y="3436920"/>
            <a:ext cx="289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gangsintensitä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809800" y="2286000"/>
            <a:ext cx="2684520" cy="3992040"/>
            <a:chOff x="2809800" y="2286000"/>
            <a:chExt cx="2684520" cy="3992040"/>
          </a:xfrm>
        </p:grpSpPr>
        <p:sp>
          <p:nvSpPr>
            <p:cNvPr id="80" name=""/>
            <p:cNvSpPr/>
            <p:nvPr/>
          </p:nvSpPr>
          <p:spPr>
            <a:xfrm rot="16202400">
              <a:off x="2361960" y="3510000"/>
              <a:ext cx="3733920" cy="1447560"/>
            </a:xfrm>
            <a:prstGeom prst="parallelogram">
              <a:avLst>
                <a:gd name="adj" fmla="val 64486"/>
              </a:avLst>
            </a:prstGeom>
            <a:solidFill>
              <a:srgbClr val="bbe0e3">
                <a:alpha val="57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2809800" y="2286000"/>
              <a:ext cx="2684520" cy="3992040"/>
              <a:chOff x="2809800" y="2286000"/>
              <a:chExt cx="2684520" cy="3992040"/>
            </a:xfrm>
          </p:grpSpPr>
          <p:sp>
            <p:nvSpPr>
              <p:cNvPr id="82" name=""/>
              <p:cNvSpPr/>
              <p:nvPr/>
            </p:nvSpPr>
            <p:spPr>
              <a:xfrm>
                <a:off x="4957920" y="3204720"/>
                <a:ext cx="0" cy="3047760"/>
              </a:xfrm>
              <a:prstGeom prst="line">
                <a:avLst/>
              </a:prstGeom>
              <a:ln w="1969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475160" y="6049800"/>
                <a:ext cx="685800" cy="22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933800">
                <a:off x="4800600" y="3122280"/>
                <a:ext cx="685800" cy="22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470400" y="2398320"/>
                <a:ext cx="1523880" cy="961560"/>
              </a:xfrm>
              <a:prstGeom prst="line">
                <a:avLst/>
              </a:prstGeom>
              <a:ln w="127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205080" y="2286000"/>
                <a:ext cx="685800" cy="193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809800" y="2436480"/>
                <a:ext cx="685800" cy="193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" name=""/>
          <p:cNvSpPr/>
          <p:nvPr/>
        </p:nvSpPr>
        <p:spPr>
          <a:xfrm>
            <a:off x="4422240" y="60958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c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4113360"/>
            <a:ext cx="2438280" cy="0"/>
          </a:xfrm>
          <a:prstGeom prst="line">
            <a:avLst/>
          </a:prstGeom>
          <a:ln w="260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2120" y="3276720"/>
            <a:ext cx="5715000" cy="0"/>
            <a:chOff x="762120" y="3276720"/>
            <a:chExt cx="5715000" cy="0"/>
          </a:xfrm>
        </p:grpSpPr>
        <p:sp>
          <p:nvSpPr>
            <p:cNvPr id="91" name=""/>
            <p:cNvSpPr/>
            <p:nvPr/>
          </p:nvSpPr>
          <p:spPr>
            <a:xfrm>
              <a:off x="762120" y="3276720"/>
              <a:ext cx="1143000" cy="0"/>
            </a:xfrm>
            <a:prstGeom prst="line">
              <a:avLst/>
            </a:prstGeom>
            <a:ln w="29196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71600" y="3276720"/>
              <a:ext cx="1523880" cy="0"/>
            </a:xfrm>
            <a:prstGeom prst="line">
              <a:avLst/>
            </a:prstGeom>
            <a:ln w="24444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0" y="3276720"/>
              <a:ext cx="1523880" cy="0"/>
            </a:xfrm>
            <a:prstGeom prst="line">
              <a:avLst/>
            </a:prstGeom>
            <a:ln w="177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00400" y="3276720"/>
              <a:ext cx="1523880" cy="0"/>
            </a:xfrm>
            <a:prstGeom prst="line">
              <a:avLst/>
            </a:prstGeom>
            <a:ln w="139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800" y="3276720"/>
              <a:ext cx="1523880" cy="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52880" y="3276720"/>
              <a:ext cx="1524240" cy="0"/>
            </a:xfrm>
            <a:prstGeom prst="line">
              <a:avLst/>
            </a:prstGeom>
            <a:ln w="66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hysikalische Grund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Absorptionsgese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666880"/>
            <a:ext cx="914400" cy="1371600"/>
          </a:xfrm>
          <a:prstGeom prst="rect">
            <a:avLst/>
          </a:prstGeom>
          <a:solidFill>
            <a:srgbClr val="333399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2666880"/>
            <a:ext cx="914400" cy="1371600"/>
          </a:xfrm>
          <a:prstGeom prst="rect">
            <a:avLst/>
          </a:prstGeom>
          <a:solidFill>
            <a:srgbClr val="333399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2666880"/>
            <a:ext cx="914400" cy="1371600"/>
          </a:xfrm>
          <a:prstGeom prst="rect">
            <a:avLst/>
          </a:prstGeom>
          <a:solidFill>
            <a:srgbClr val="333399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2666880"/>
            <a:ext cx="914400" cy="1371600"/>
          </a:xfrm>
          <a:prstGeom prst="rect">
            <a:avLst/>
          </a:prstGeom>
          <a:solidFill>
            <a:srgbClr val="333399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21200" y="2286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6240" y="2286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40640" y="2286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55040" y="2286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905120" y="4038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819520" y="4038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733920" y="4038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648320" y="4038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562720" y="4038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6440" y="5207040"/>
            <a:ext cx="289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21800" y="5205240"/>
            <a:ext cx="677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35840" y="5205240"/>
            <a:ext cx="7891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CH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CH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CH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de-CH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CH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CH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CH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CH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0240" y="5205240"/>
            <a:ext cx="7891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64640" y="5205240"/>
            <a:ext cx="7891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4724280"/>
            <a:ext cx="457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484812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-Ach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19640" y="4405320"/>
            <a:ext cx="573840" cy="357120"/>
            <a:chOff x="1619640" y="4405320"/>
            <a:chExt cx="573840" cy="357120"/>
          </a:xfrm>
        </p:grpSpPr>
        <p:sp>
          <p:nvSpPr>
            <p:cNvPr id="120" name=""/>
            <p:cNvSpPr/>
            <p:nvPr/>
          </p:nvSpPr>
          <p:spPr>
            <a:xfrm>
              <a:off x="1619640" y="440532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=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6960" y="46864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527560" y="4405320"/>
            <a:ext cx="573840" cy="357120"/>
            <a:chOff x="2527560" y="4405320"/>
            <a:chExt cx="573840" cy="357120"/>
          </a:xfrm>
        </p:grpSpPr>
        <p:sp>
          <p:nvSpPr>
            <p:cNvPr id="123" name=""/>
            <p:cNvSpPr/>
            <p:nvPr/>
          </p:nvSpPr>
          <p:spPr>
            <a:xfrm>
              <a:off x="2527560" y="440532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= </a:t>
              </a: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4880" y="46864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448080" y="4405320"/>
            <a:ext cx="672840" cy="357120"/>
            <a:chOff x="3448080" y="4405320"/>
            <a:chExt cx="672840" cy="357120"/>
          </a:xfrm>
        </p:grpSpPr>
        <p:sp>
          <p:nvSpPr>
            <p:cNvPr id="126" name=""/>
            <p:cNvSpPr/>
            <p:nvPr/>
          </p:nvSpPr>
          <p:spPr>
            <a:xfrm>
              <a:off x="3448080" y="440532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= 2</a:t>
              </a: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89280" y="46864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356000" y="4405320"/>
            <a:ext cx="672840" cy="357120"/>
            <a:chOff x="4356000" y="4405320"/>
            <a:chExt cx="672840" cy="357120"/>
          </a:xfrm>
        </p:grpSpPr>
        <p:sp>
          <p:nvSpPr>
            <p:cNvPr id="129" name=""/>
            <p:cNvSpPr/>
            <p:nvPr/>
          </p:nvSpPr>
          <p:spPr>
            <a:xfrm>
              <a:off x="4356000" y="440532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= 3</a:t>
              </a: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03680" y="46864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270400" y="4405320"/>
            <a:ext cx="672840" cy="357120"/>
            <a:chOff x="5270400" y="4405320"/>
            <a:chExt cx="672840" cy="357120"/>
          </a:xfrm>
        </p:grpSpPr>
        <p:sp>
          <p:nvSpPr>
            <p:cNvPr id="132" name=""/>
            <p:cNvSpPr/>
            <p:nvPr/>
          </p:nvSpPr>
          <p:spPr>
            <a:xfrm>
              <a:off x="5270400" y="440532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= 4</a:t>
              </a: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18080" y="46864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755360" y="5845320"/>
            <a:ext cx="543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I = I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25760" y="5843520"/>
            <a:ext cx="75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x/d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39440" y="5843520"/>
            <a:ext cx="869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x/d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3840" y="5843520"/>
            <a:ext cx="869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x/d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68240" y="5843520"/>
            <a:ext cx="869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x/d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57560" y="5715000"/>
            <a:ext cx="1959480" cy="579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ff0000"/>
                </a:solidFill>
                <a:latin typeface="Arial"/>
              </a:rPr>
              <a:t>I(x)</a:t>
            </a:r>
            <a:r>
              <a:rPr b="0" lang="de-CH" sz="2800" spc="-1" strike="noStrike" baseline="-25000">
                <a:solidFill>
                  <a:srgbClr val="ff0000"/>
                </a:solidFill>
                <a:latin typeface="Arial"/>
              </a:rPr>
              <a:t>  </a:t>
            </a:r>
            <a:r>
              <a:rPr b="0" lang="de-CH" sz="2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i="1" lang="de-CH" sz="2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i="1" lang="de-CH" sz="2800" spc="-1" strike="noStrike" baseline="30000">
                <a:solidFill>
                  <a:srgbClr val="ff0000"/>
                </a:solidFill>
                <a:latin typeface="Arial"/>
              </a:rPr>
              <a:t>x/d</a:t>
            </a:r>
            <a:r>
              <a:rPr b="0" lang="de-CH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de-CH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hysikalische Grund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Absorptionsgese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76520" y="3597120"/>
            <a:ext cx="6492600" cy="1812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62120" y="26668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ff0000"/>
                </a:solidFill>
                <a:latin typeface="Arial"/>
              </a:rPr>
              <a:t>I(x)</a:t>
            </a:r>
            <a:r>
              <a:rPr b="0" lang="de-CH" sz="2800" spc="-1" strike="noStrike" baseline="-25000">
                <a:solidFill>
                  <a:srgbClr val="ff0000"/>
                </a:solidFill>
                <a:latin typeface="Arial"/>
              </a:rPr>
              <a:t>  </a:t>
            </a:r>
            <a:r>
              <a:rPr b="0" lang="de-CH" sz="2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i="1" lang="de-CH" sz="2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i="1" lang="de-CH" sz="2800" spc="-1" strike="noStrike" baseline="30000">
                <a:solidFill>
                  <a:srgbClr val="ff0000"/>
                </a:solidFill>
                <a:latin typeface="Arial"/>
              </a:rPr>
              <a:t>x/d</a:t>
            </a:r>
            <a:r>
              <a:rPr b="0" lang="de-CH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de-CH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2666880"/>
            <a:ext cx="6172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800" spc="-1" strike="noStrike" baseline="30000">
                <a:solidFill>
                  <a:srgbClr val="0000ff"/>
                </a:solidFill>
                <a:latin typeface="Arial"/>
              </a:rPr>
              <a:t>/d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26668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2666880"/>
            <a:ext cx="35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0000"/>
                </a:solidFill>
                <a:latin typeface="Arial"/>
              </a:rPr>
              <a:t>= e</a:t>
            </a:r>
            <a:r>
              <a:rPr b="0" i="1" lang="de-CH" sz="2800" spc="-1" strike="noStrike" baseline="30000">
                <a:solidFill>
                  <a:srgbClr val="ff0000"/>
                </a:solidFill>
                <a:latin typeface="Arial"/>
              </a:rPr>
              <a:t>x</a:t>
            </a:r>
            <a:r>
              <a:rPr b="0" lang="de-CH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de-CH" sz="2800" spc="-1" strike="noStrike" baseline="30000">
                <a:solidFill>
                  <a:srgbClr val="00ff00"/>
                </a:solidFill>
                <a:latin typeface="Arial"/>
              </a:rPr>
              <a:t>ln(</a:t>
            </a:r>
            <a:r>
              <a:rPr b="0" i="1" lang="de-CH" sz="2800" spc="-1" strike="noStrike" baseline="30000">
                <a:solidFill>
                  <a:srgbClr val="00ff00"/>
                </a:solidFill>
                <a:latin typeface="Arial"/>
              </a:rPr>
              <a:t>c)</a:t>
            </a:r>
            <a:r>
              <a:rPr b="0" lang="de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de-CH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26668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0000"/>
                </a:solidFill>
                <a:latin typeface="Arial"/>
              </a:rPr>
              <a:t>= e</a:t>
            </a:r>
            <a:r>
              <a:rPr b="0" i="1" lang="de-CH" sz="2800" spc="-1" strike="noStrike" baseline="30000">
                <a:solidFill>
                  <a:srgbClr val="00ff00"/>
                </a:solidFill>
                <a:latin typeface="Arial"/>
              </a:rPr>
              <a:t>-f</a:t>
            </a:r>
            <a:r>
              <a:rPr b="0" i="1" lang="de-CH" sz="2800" spc="-1" strike="noStrike" baseline="30000">
                <a:solidFill>
                  <a:srgbClr val="ff0000"/>
                </a:solidFill>
                <a:latin typeface="Arial"/>
              </a:rPr>
              <a:t>x</a:t>
            </a:r>
            <a:r>
              <a:rPr b="0" lang="de-CH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de-CH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de-CH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hysikalische Grund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s Absorptionsgesetz fü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nhomoge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teriali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10590"/>
          <a:stretch/>
        </p:blipFill>
        <p:spPr>
          <a:xfrm>
            <a:off x="412920" y="2286000"/>
            <a:ext cx="3493800" cy="3733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34120" y="2666880"/>
            <a:ext cx="2286000" cy="2210040"/>
          </a:xfrm>
          <a:prstGeom prst="ellipse">
            <a:avLst/>
          </a:prstGeom>
          <a:solidFill>
            <a:srgbClr val="bbe0e3"/>
          </a:solidFill>
          <a:ln w="343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343400" y="2437920"/>
            <a:ext cx="3886200" cy="22100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64800" y="257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340160" y="4190760"/>
            <a:ext cx="2187720" cy="1587240"/>
            <a:chOff x="4340160" y="4190760"/>
            <a:chExt cx="2187720" cy="1587240"/>
          </a:xfrm>
        </p:grpSpPr>
        <p:sp>
          <p:nvSpPr>
            <p:cNvPr id="155" name=""/>
            <p:cNvSpPr/>
            <p:nvPr/>
          </p:nvSpPr>
          <p:spPr>
            <a:xfrm flipV="1">
              <a:off x="5410080" y="4190760"/>
              <a:ext cx="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40160" y="5257800"/>
              <a:ext cx="2187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ff"/>
                  </a:solidFill>
                  <a:latin typeface="Arial"/>
                </a:rPr>
                <a:t>Harte Knochensubstanz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ff"/>
                  </a:solidFill>
                  <a:latin typeface="Arial"/>
                </a:rPr>
                <a:t>starke Absor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551280" y="3505320"/>
            <a:ext cx="1878480" cy="2272680"/>
            <a:chOff x="6551280" y="3505320"/>
            <a:chExt cx="1878480" cy="2272680"/>
          </a:xfrm>
        </p:grpSpPr>
        <p:sp>
          <p:nvSpPr>
            <p:cNvPr id="158" name=""/>
            <p:cNvSpPr/>
            <p:nvPr/>
          </p:nvSpPr>
          <p:spPr>
            <a:xfrm>
              <a:off x="6551280" y="5257800"/>
              <a:ext cx="1878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2aa5e3"/>
                  </a:solidFill>
                  <a:latin typeface="Arial"/>
                </a:rPr>
                <a:t>Markhöhle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2aa5e3"/>
                  </a:solidFill>
                  <a:latin typeface="Arial"/>
                </a:rPr>
                <a:t>schwache Absor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629400" y="3505320"/>
              <a:ext cx="0" cy="1676160"/>
            </a:xfrm>
            <a:prstGeom prst="line">
              <a:avLst/>
            </a:prstGeom>
            <a:ln w="9360">
              <a:solidFill>
                <a:srgbClr val="2aa5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0" y="6046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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respektive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respektive </a:t>
            </a: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hängt vom Ort </a:t>
            </a: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a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51880" y="60199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Konsequen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hysikalische Grund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s Absorptionsgesetz fü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nhomoge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teriali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60440" y="2209680"/>
            <a:ext cx="462312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286000" y="3429000"/>
            <a:ext cx="4572000" cy="13161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2244240" y="3505320"/>
            <a:ext cx="1944000" cy="2440800"/>
            <a:chOff x="2244240" y="3505320"/>
            <a:chExt cx="1944000" cy="2440800"/>
          </a:xfrm>
        </p:grpSpPr>
        <p:sp>
          <p:nvSpPr>
            <p:cNvPr id="167" name=""/>
            <p:cNvSpPr/>
            <p:nvPr/>
          </p:nvSpPr>
          <p:spPr>
            <a:xfrm>
              <a:off x="2244240" y="5029200"/>
              <a:ext cx="194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ff"/>
                  </a:solidFill>
                  <a:latin typeface="Arial"/>
                </a:rPr>
                <a:t>Diese Grösse is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ff"/>
                  </a:solidFill>
                  <a:latin typeface="Arial"/>
                </a:rPr>
                <a:t>messbar für je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ff"/>
                  </a:solidFill>
                  <a:latin typeface="Arial"/>
                </a:rPr>
                <a:t>Gerade </a:t>
              </a:r>
              <a:r>
                <a:rPr b="0" i="1" sz="1800" spc="-1" strike="noStrike">
                  <a:solidFill>
                    <a:srgbClr val="0000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0" y="3505320"/>
              <a:ext cx="1828800" cy="121896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124080" y="4723920"/>
              <a:ext cx="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802760" y="3657600"/>
            <a:ext cx="1919520" cy="2014200"/>
            <a:chOff x="4802760" y="3657600"/>
            <a:chExt cx="1919520" cy="2014200"/>
          </a:xfrm>
        </p:grpSpPr>
        <p:sp>
          <p:nvSpPr>
            <p:cNvPr id="171" name=""/>
            <p:cNvSpPr/>
            <p:nvPr/>
          </p:nvSpPr>
          <p:spPr>
            <a:xfrm>
              <a:off x="5105520" y="3657600"/>
              <a:ext cx="990360" cy="838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02760" y="5029200"/>
              <a:ext cx="191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ff0000"/>
                  </a:solidFill>
                  <a:latin typeface="Arial"/>
                </a:rPr>
                <a:t>Diese Grösse is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ff0000"/>
                  </a:solidFill>
                  <a:latin typeface="Arial"/>
                </a:rPr>
                <a:t>unbekan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486400" y="4495680"/>
              <a:ext cx="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911520" y="6129360"/>
            <a:ext cx="757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"/>
              </a:rPr>
              <a:t>Frage: Kann </a:t>
            </a:r>
            <a:r>
              <a:rPr b="0" i="1" sz="2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sz="2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aus den </a:t>
            </a:r>
            <a:r>
              <a:rPr b="0" sz="2200" spc="-1" strike="noStrike">
                <a:solidFill>
                  <a:srgbClr val="0000ff"/>
                </a:solidFill>
                <a:latin typeface="Arial"/>
              </a:rPr>
              <a:t>Messungen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 rekonstruiert werd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ff"/>
                </a:solidFill>
                <a:latin typeface="Arial"/>
              </a:rPr>
              <a:t>Ähhh, was hat man davon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Wenn man die Funktion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) kennt, färbt man das Pixel am Ort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mit dem Grauwert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) ein. Dies ergibt das gesuchte Bild des Querschnit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ff"/>
                </a:solidFill>
                <a:latin typeface="Arial"/>
              </a:rPr>
              <a:t>Mathematische Grund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 algn="just">
              <a:spcBef>
                <a:spcPts val="451"/>
              </a:spcBef>
              <a:buClr>
                <a:srgbClr val="000000"/>
              </a:buClr>
              <a:buFont typeface="Arial"/>
              <a:buAutoNum type="arabicPlain" startAt="1917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det der Mathematiker Johann Radon die Antwort und gibt die Lösung als Formel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just">
              <a:spcBef>
                <a:spcPts val="451"/>
              </a:spcBef>
              <a:buClr>
                <a:srgbClr val="000000"/>
              </a:buClr>
              <a:buFont typeface="Arial"/>
              <a:buAutoNum type="arabicPlain" startAt="1963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chafft der Physiker Alan McLeod Cormack die technischen Grundl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just">
              <a:spcBef>
                <a:spcPts val="451"/>
              </a:spcBef>
              <a:buClr>
                <a:srgbClr val="000000"/>
              </a:buClr>
              <a:buFont typeface="Arial"/>
              <a:buAutoNum type="arabicPlain" startAt="1972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entwickelt der Elektroingenieur Sir Godfrey Newbold Hounsfield den ersten marktfähigen Computertomograp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0" algn="just">
              <a:spcBef>
                <a:spcPts val="451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1979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erhalten Cormack und Hounsfield den Nobelpreis für Medizin. Radon starb schon 19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0" algn="just">
              <a:spcBef>
                <a:spcPts val="451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0" algn="just">
              <a:spcBef>
                <a:spcPts val="451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52480" y="4343400"/>
            <a:ext cx="1524240" cy="2295360"/>
            <a:chOff x="1752480" y="4343400"/>
            <a:chExt cx="1524240" cy="229536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1752480" y="4343400"/>
              <a:ext cx="151452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752480" y="62704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Rad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038480" y="4343400"/>
            <a:ext cx="1476360" cy="2273400"/>
            <a:chOff x="4038480" y="4343400"/>
            <a:chExt cx="1476360" cy="227340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4038480" y="4343400"/>
              <a:ext cx="14763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038480" y="62485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Corm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095880" y="4343400"/>
            <a:ext cx="1447920" cy="2273400"/>
            <a:chOff x="6095880" y="4343400"/>
            <a:chExt cx="1447920" cy="2273400"/>
          </a:xfrm>
        </p:grpSpPr>
        <p:pic>
          <p:nvPicPr>
            <p:cNvPr id="186" name="" descr=""/>
            <p:cNvPicPr/>
            <p:nvPr/>
          </p:nvPicPr>
          <p:blipFill>
            <a:blip r:embed="rId3"/>
            <a:stretch/>
          </p:blipFill>
          <p:spPr>
            <a:xfrm>
              <a:off x="6281640" y="4343400"/>
              <a:ext cx="1262160" cy="18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6095880" y="62485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Hounsfie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as Sie erwarte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ist 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 kann man CT brauc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wurde die CT erfun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kalis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s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s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funktioniert 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ff"/>
                </a:solidFill>
                <a:latin typeface="Arial"/>
              </a:rPr>
              <a:t>Mathematische Grund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 algn="just">
              <a:spcBef>
                <a:spcPts val="451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Radons Originalform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0" algn="just">
              <a:spcBef>
                <a:spcPts val="451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0" algn="just">
              <a:spcBef>
                <a:spcPts val="451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3479760" cy="927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9040" y="357336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urier-Inver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0120" y="489420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iltered Backproje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352680" y="3384720"/>
            <a:ext cx="2692440" cy="806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352680" y="4862520"/>
            <a:ext cx="3581640" cy="5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ff"/>
                </a:solidFill>
                <a:latin typeface="Arial"/>
              </a:rPr>
              <a:t>Mathematische Grund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st damit alles kla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just">
              <a:spcBef>
                <a:spcPts val="249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Nein! Man hat mit zahlreichen Problemen zu kämpf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hysik: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treuung, Brechung, </a:t>
            </a:r>
            <a:r>
              <a:rPr b="0" i="1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Messtechnik: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Es sind nur endlich viele Messungen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Numerik: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Wie kann man die komplizierten Formeln dem Computer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beibring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7896"/>
          <a:stretch/>
        </p:blipFill>
        <p:spPr>
          <a:xfrm>
            <a:off x="2743200" y="3693960"/>
            <a:ext cx="3733920" cy="3202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562720" y="6095880"/>
            <a:ext cx="9903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52560" y="6095880"/>
            <a:ext cx="125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Röntgenqu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53280" y="655308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Detekto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266720" y="4572000"/>
            <a:ext cx="175284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42670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0000"/>
                </a:solidFill>
                <a:latin typeface="Arial"/>
              </a:rPr>
              <a:t>Ein Tumor hier bleibt unentdeck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ff"/>
                </a:solidFill>
                <a:latin typeface="Arial"/>
              </a:rPr>
              <a:t>Under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290844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ff"/>
                </a:solidFill>
                <a:latin typeface="Arial"/>
              </a:rPr>
              <a:t>Korrektes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3381120" cy="34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ff"/>
                </a:solidFill>
                <a:latin typeface="Arial"/>
              </a:rPr>
              <a:t>Rekonstruktionsalgorith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Fouriermetho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Filtered Back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Algebraische Methoden (Kacmar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just">
              <a:spcBef>
                <a:spcPts val="249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ff"/>
                </a:solidFill>
                <a:latin typeface="Arial"/>
              </a:rPr>
              <a:t>Rekonstruktionsalgorith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lgebraische Metho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9400" y="2514600"/>
            <a:ext cx="63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gaaaaaaaanz grober Bildschirm hat nu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16480" y="25146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in Pixe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429000"/>
            <a:ext cx="1828800" cy="1828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4343400"/>
            <a:ext cx="3962160" cy="0"/>
          </a:xfrm>
          <a:prstGeom prst="line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67720" y="365436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03560" y="3670200"/>
            <a:ext cx="115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98840" y="57243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752480" y="5715000"/>
            <a:ext cx="1219320" cy="54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ff"/>
                </a:solidFill>
                <a:latin typeface="Arial"/>
              </a:rPr>
              <a:t>Rekonstruktionsalgorith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lgebraische 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1200" y="2286000"/>
            <a:ext cx="50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Jetzt ein Bildschirm mit wirklich guter Auflös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93840" y="22906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vier Pixe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352680"/>
            <a:ext cx="9144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05240" y="365760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sz="1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84680" y="3657600"/>
            <a:ext cx="90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CH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43400" y="3352680"/>
            <a:ext cx="914400" cy="914400"/>
          </a:xfrm>
          <a:prstGeom prst="rect">
            <a:avLst/>
          </a:prstGeom>
          <a:solidFill>
            <a:srgbClr val="80808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4267080"/>
            <a:ext cx="914400" cy="914400"/>
          </a:xfrm>
          <a:prstGeom prst="rect">
            <a:avLst/>
          </a:prstGeom>
          <a:solidFill>
            <a:srgbClr val="80808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4267080"/>
            <a:ext cx="914400" cy="914400"/>
          </a:xfrm>
          <a:prstGeom prst="rect">
            <a:avLst/>
          </a:prstGeom>
          <a:solidFill>
            <a:srgbClr val="4b4b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81600" y="3429000"/>
            <a:ext cx="336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10000" y="3429000"/>
            <a:ext cx="336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81600" y="4876920"/>
            <a:ext cx="336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10000" y="4876920"/>
            <a:ext cx="336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98760" y="457200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sz="1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78560" y="4572000"/>
            <a:ext cx="90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CH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3124080"/>
            <a:ext cx="0" cy="2514600"/>
          </a:xfrm>
          <a:prstGeom prst="line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62320" y="3835440"/>
            <a:ext cx="3962160" cy="0"/>
          </a:xfrm>
          <a:prstGeom prst="line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4724280"/>
            <a:ext cx="3962520" cy="0"/>
          </a:xfrm>
          <a:prstGeom prst="line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00600" y="3124080"/>
            <a:ext cx="0" cy="2514600"/>
          </a:xfrm>
          <a:prstGeom prst="line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86320" y="28195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sz="1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00720" y="28195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sz="1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36920" y="5715000"/>
            <a:ext cx="90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CH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27280" y="5715000"/>
            <a:ext cx="90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CH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ff"/>
                </a:solidFill>
                <a:latin typeface="Arial"/>
              </a:rPr>
              <a:t>Rekonstruktionsalgorith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24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lgebraische 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46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46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46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46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2280" y="2490840"/>
            <a:ext cx="10008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CH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CH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CH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CH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74000" y="2514600"/>
            <a:ext cx="21592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i="1" sz="16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= log </a:t>
            </a:r>
            <a:r>
              <a:rPr b="0" lang="de-CH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+ log </a:t>
            </a:r>
            <a:r>
              <a:rPr b="0" lang="de-CH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i="1" sz="16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= log </a:t>
            </a:r>
            <a:r>
              <a:rPr b="0" lang="de-CH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+ log </a:t>
            </a:r>
            <a:r>
              <a:rPr b="0" lang="de-CH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i="1" sz="16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= log </a:t>
            </a:r>
            <a:r>
              <a:rPr b="0" lang="de-CH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+ log </a:t>
            </a:r>
            <a:r>
              <a:rPr b="0" lang="de-CH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i="1" sz="16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= log </a:t>
            </a:r>
            <a:r>
              <a:rPr b="0" lang="de-CH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+ log </a:t>
            </a:r>
            <a:r>
              <a:rPr b="0" lang="de-CH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981080" y="2732040"/>
            <a:ext cx="1600200" cy="392040"/>
            <a:chOff x="1981080" y="2732040"/>
            <a:chExt cx="1600200" cy="392040"/>
          </a:xfrm>
        </p:grpSpPr>
        <p:sp>
          <p:nvSpPr>
            <p:cNvPr id="248" name=""/>
            <p:cNvSpPr/>
            <p:nvPr/>
          </p:nvSpPr>
          <p:spPr>
            <a:xfrm>
              <a:off x="2035800" y="2732040"/>
              <a:ext cx="146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logarithmier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81080" y="3124080"/>
              <a:ext cx="160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959280" y="234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8720" y="2514600"/>
            <a:ext cx="5238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1 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90080" y="2514600"/>
            <a:ext cx="92304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33920" y="37782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0000"/>
                </a:solidFill>
                <a:latin typeface="Arial"/>
              </a:rPr>
              <a:t>Das ist ein lineares Gleichungssystem mit 4 Gleichungen für 4 Unbekan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809880" y="2362320"/>
            <a:ext cx="3810240" cy="1371600"/>
            <a:chOff x="3809880" y="2362320"/>
            <a:chExt cx="3810240" cy="1371600"/>
          </a:xfrm>
        </p:grpSpPr>
        <p:sp>
          <p:nvSpPr>
            <p:cNvPr id="255" name=""/>
            <p:cNvSpPr/>
            <p:nvPr/>
          </p:nvSpPr>
          <p:spPr>
            <a:xfrm>
              <a:off x="3809880" y="2438280"/>
              <a:ext cx="3810240" cy="1219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43400" y="2362320"/>
              <a:ext cx="21337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43400" y="3581280"/>
              <a:ext cx="21337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803520" y="4729320"/>
            <a:ext cx="45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ider gibt es da ein Problem, denn es fol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22520" y="5237280"/>
            <a:ext cx="69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de-CH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de-CH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de-CH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de-CH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de-CH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de-CH" sz="18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de-CH" sz="18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0" lang="de-CH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de-CH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de-CH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CH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i="1" sz="1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i="1" sz="1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sz="16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i="1" sz="16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sz="1600" spc="-1" strike="noStrike">
                <a:solidFill>
                  <a:srgbClr val="00ff00"/>
                </a:solidFill>
                <a:latin typeface="Arial"/>
              </a:rPr>
              <a:t> + </a:t>
            </a:r>
            <a:r>
              <a:rPr b="0" i="1" sz="16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0" sz="1600" spc="-1" strike="noStrike">
                <a:solidFill>
                  <a:srgbClr val="00ff00"/>
                </a:solidFill>
                <a:latin typeface="Arial"/>
              </a:rPr>
              <a:t>)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sz="1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sz="16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sz="1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000" y="525780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ff"/>
                </a:solidFill>
                <a:latin typeface="Arial"/>
              </a:rPr>
              <a:t>Rekonstruktionsalgorith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24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lgebraische 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46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46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46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46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2147760"/>
            <a:ext cx="914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2743200"/>
            <a:ext cx="754380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Haben unsere Messdaten </a:t>
            </a:r>
            <a:r>
              <a:rPr b="0" i="1" lang="de-CH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CH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CH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i="1" lang="de-CH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iese Eigenschaft </a:t>
            </a:r>
            <a:r>
              <a:rPr b="0" i="1" lang="de-CH" sz="1800" spc="-1" strike="noStrike">
                <a:solidFill>
                  <a:srgbClr val="ff0000"/>
                </a:solidFill>
                <a:latin typeface="Arial"/>
              </a:rPr>
              <a:t>nicht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, so besitzt das Gleichungssystem </a:t>
            </a:r>
            <a:r>
              <a:rPr b="0" i="1" lang="de-CH" sz="1800" spc="-1" strike="noStrike">
                <a:solidFill>
                  <a:srgbClr val="ff0000"/>
                </a:solidFill>
                <a:latin typeface="Arial"/>
              </a:rPr>
              <a:t>keine Lösung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ff0000"/>
                </a:solidFill>
                <a:latin typeface="Arial"/>
              </a:rPr>
              <a:t>Hab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unsere Messdaten </a:t>
            </a:r>
            <a:r>
              <a:rPr b="0" i="1" lang="de-CH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CH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CH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i="1" lang="de-CH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iese Eigenschaft, so besitzt das Gleichungssystem </a:t>
            </a:r>
            <a:r>
              <a:rPr b="0" i="1" lang="de-CH" sz="1800" spc="-1" strike="noStrike">
                <a:solidFill>
                  <a:srgbClr val="ff0000"/>
                </a:solidFill>
                <a:latin typeface="Arial"/>
              </a:rPr>
              <a:t>unendlich viele Lösung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8600" y="4419720"/>
            <a:ext cx="54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roblem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Messdaten sind nie ganz gen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ist im Allgemeinen nicht konstant auf jedem 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ff"/>
                </a:solidFill>
                <a:latin typeface="Arial"/>
              </a:rPr>
              <a:t>Rekonstruktionsalgorith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24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lgebraische 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46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46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46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46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2743200"/>
            <a:ext cx="754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uswe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Lasse eine Gleichung weg und suche unter den unedlich vielen Lösungen die „kleinste“. Diese ist eine Approximation an die Lös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rsetze eine Messung folgendermass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Metazi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zu braucht man eigentlich Mathemati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e funktioniert Wissenschaft/Mathemati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ff"/>
                </a:solidFill>
                <a:latin typeface="Arial"/>
              </a:rPr>
              <a:t>Rekonstruktionsalgorith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lgebraische 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598760" y="2819520"/>
            <a:ext cx="5790960" cy="3231720"/>
            <a:chOff x="1598760" y="2819520"/>
            <a:chExt cx="5790960" cy="3231720"/>
          </a:xfrm>
        </p:grpSpPr>
        <p:grpSp>
          <p:nvGrpSpPr>
            <p:cNvPr id="272" name=""/>
            <p:cNvGrpSpPr/>
            <p:nvPr/>
          </p:nvGrpSpPr>
          <p:grpSpPr>
            <a:xfrm>
              <a:off x="1598760" y="2819520"/>
              <a:ext cx="5790960" cy="3231720"/>
              <a:chOff x="1598760" y="2819520"/>
              <a:chExt cx="5790960" cy="32317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3429000" y="3352680"/>
                <a:ext cx="1828800" cy="1828800"/>
                <a:chOff x="3429000" y="3352680"/>
                <a:chExt cx="1828800" cy="18288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429000" y="3352680"/>
                  <a:ext cx="914400" cy="91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343400" y="3352680"/>
                  <a:ext cx="914400" cy="914400"/>
                </a:xfrm>
                <a:prstGeom prst="rect">
                  <a:avLst/>
                </a:prstGeom>
                <a:solidFill>
                  <a:srgbClr val="808080">
                    <a:alpha val="47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429000" y="4267080"/>
                  <a:ext cx="914400" cy="914400"/>
                </a:xfrm>
                <a:prstGeom prst="rect">
                  <a:avLst/>
                </a:prstGeom>
                <a:solidFill>
                  <a:srgbClr val="808080">
                    <a:alpha val="26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343400" y="4267080"/>
                  <a:ext cx="914400" cy="914400"/>
                </a:xfrm>
                <a:prstGeom prst="rect">
                  <a:avLst/>
                </a:prstGeom>
                <a:solidFill>
                  <a:srgbClr val="4b4b4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1598760" y="2819520"/>
                <a:ext cx="5790960" cy="3231720"/>
                <a:chOff x="1598760" y="2819520"/>
                <a:chExt cx="5790960" cy="323172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1605240" y="3657600"/>
                  <a:ext cx="5709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sz="1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0 </a:t>
                  </a:r>
                  <a:r>
                    <a:rPr b="0" sz="1400" spc="-1" strike="noStrike">
                      <a:solidFill>
                        <a:srgbClr val="000000"/>
                      </a:solidFill>
                      <a:latin typeface="Arial"/>
                    </a:rPr>
                    <a:t>= 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484680" y="3657600"/>
                  <a:ext cx="9050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sz="1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sz="1400" spc="-1" strike="noStrike">
                      <a:solidFill>
                        <a:srgbClr val="000000"/>
                      </a:solidFill>
                      <a:latin typeface="Arial"/>
                    </a:rPr>
                    <a:t> = </a:t>
                  </a:r>
                  <a:r>
                    <a:rPr b="0" lang="de-CH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0" lang="de-CH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de-CH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0" lang="de-CH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598760" y="4572000"/>
                  <a:ext cx="5709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sz="1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0 </a:t>
                  </a:r>
                  <a:r>
                    <a:rPr b="0" sz="1400" spc="-1" strike="noStrike">
                      <a:solidFill>
                        <a:srgbClr val="000000"/>
                      </a:solidFill>
                      <a:latin typeface="Arial"/>
                    </a:rPr>
                    <a:t>= 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478560" y="4572000"/>
                  <a:ext cx="9050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sz="1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sz="1400" spc="-1" strike="noStrike">
                      <a:solidFill>
                        <a:srgbClr val="000000"/>
                      </a:solidFill>
                      <a:latin typeface="Arial"/>
                    </a:rPr>
                    <a:t> = </a:t>
                  </a:r>
                  <a:r>
                    <a:rPr b="0" lang="de-CH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0" lang="de-CH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de-CH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0" lang="de-CH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886200" y="3124080"/>
                  <a:ext cx="0" cy="2514600"/>
                </a:xfrm>
                <a:prstGeom prst="line">
                  <a:avLst/>
                </a:prstGeom>
                <a:ln w="4752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362320" y="3835440"/>
                  <a:ext cx="3962160" cy="0"/>
                </a:xfrm>
                <a:prstGeom prst="line">
                  <a:avLst/>
                </a:prstGeom>
                <a:ln w="4752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438280" y="4724280"/>
                  <a:ext cx="3962520" cy="0"/>
                </a:xfrm>
                <a:prstGeom prst="line">
                  <a:avLst/>
                </a:prstGeom>
                <a:ln w="4752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586320" y="2819520"/>
                  <a:ext cx="5709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sz="1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0 </a:t>
                  </a:r>
                  <a:r>
                    <a:rPr b="0" sz="1400" spc="-1" strike="noStrike">
                      <a:solidFill>
                        <a:srgbClr val="000000"/>
                      </a:solidFill>
                      <a:latin typeface="Arial"/>
                    </a:rPr>
                    <a:t>= 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436920" y="5715000"/>
                  <a:ext cx="9050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sz="1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sz="1400" spc="-1" strike="noStrike">
                      <a:solidFill>
                        <a:srgbClr val="000000"/>
                      </a:solidFill>
                      <a:latin typeface="Arial"/>
                    </a:rPr>
                    <a:t> = </a:t>
                  </a:r>
                  <a:r>
                    <a:rPr b="0" lang="de-CH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0" lang="de-CH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de-CH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0" lang="de-CH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8" name=""/>
            <p:cNvSpPr/>
            <p:nvPr/>
          </p:nvSpPr>
          <p:spPr>
            <a:xfrm>
              <a:off x="4881600" y="3429000"/>
              <a:ext cx="336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10000" y="3886200"/>
              <a:ext cx="336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81600" y="4343400"/>
              <a:ext cx="336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10000" y="4876920"/>
              <a:ext cx="336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00720" y="28195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sz="1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27280" y="5715000"/>
            <a:ext cx="90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CH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00400" y="3124080"/>
            <a:ext cx="2514600" cy="2514600"/>
          </a:xfrm>
          <a:prstGeom prst="line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48240" y="28195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sz="1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545440" y="5715000"/>
            <a:ext cx="1058760" cy="352800"/>
            <a:chOff x="5545440" y="5715000"/>
            <a:chExt cx="1058760" cy="352800"/>
          </a:xfrm>
        </p:grpSpPr>
        <p:sp>
          <p:nvSpPr>
            <p:cNvPr id="297" name=""/>
            <p:cNvSpPr/>
            <p:nvPr/>
          </p:nvSpPr>
          <p:spPr>
            <a:xfrm>
              <a:off x="5545440" y="5715000"/>
              <a:ext cx="101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de-CH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de-CH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CH" sz="1400" spc="-1" strike="noStrike" baseline="30000">
                  <a:solidFill>
                    <a:srgbClr val="000000"/>
                  </a:solidFill>
                  <a:latin typeface="Arial"/>
                </a:rPr>
                <a:t>√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CH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de-CH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CH" sz="1400" spc="-1" strike="noStrike" baseline="30000">
                  <a:solidFill>
                    <a:srgbClr val="000000"/>
                  </a:solidFill>
                  <a:latin typeface="Arial"/>
                </a:rPr>
                <a:t>√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74880" y="5791320"/>
              <a:ext cx="22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51240" y="5791320"/>
              <a:ext cx="22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4800600" y="3124080"/>
            <a:ext cx="0" cy="2514600"/>
          </a:xfrm>
          <a:prstGeom prst="line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ff"/>
                </a:solidFill>
                <a:latin typeface="Arial"/>
              </a:rPr>
              <a:t>Rekonstruktionsalgorith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24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lgebraische 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46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46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46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46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981080" y="2732040"/>
            <a:ext cx="1600200" cy="392040"/>
            <a:chOff x="1981080" y="2732040"/>
            <a:chExt cx="1600200" cy="392040"/>
          </a:xfrm>
        </p:grpSpPr>
        <p:sp>
          <p:nvSpPr>
            <p:cNvPr id="304" name=""/>
            <p:cNvSpPr/>
            <p:nvPr/>
          </p:nvSpPr>
          <p:spPr>
            <a:xfrm>
              <a:off x="2035800" y="2732040"/>
              <a:ext cx="146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logarithmier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81080" y="3124080"/>
              <a:ext cx="160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959280" y="234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88720" y="2514600"/>
            <a:ext cx="5238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1 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90080" y="2514600"/>
            <a:ext cx="92304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0" i="1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sz="16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33920" y="37782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0000"/>
                </a:solidFill>
                <a:latin typeface="Arial"/>
              </a:rPr>
              <a:t>Das ist ein lineares Gleichungssystem mit 4 Gleichungen für 4 Unbekan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809880" y="2362320"/>
            <a:ext cx="3810240" cy="1371600"/>
            <a:chOff x="3809880" y="2362320"/>
            <a:chExt cx="3810240" cy="1371600"/>
          </a:xfrm>
        </p:grpSpPr>
        <p:sp>
          <p:nvSpPr>
            <p:cNvPr id="311" name=""/>
            <p:cNvSpPr/>
            <p:nvPr/>
          </p:nvSpPr>
          <p:spPr>
            <a:xfrm>
              <a:off x="3809880" y="2438280"/>
              <a:ext cx="3810240" cy="1219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43400" y="2362320"/>
              <a:ext cx="21337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43400" y="3581280"/>
              <a:ext cx="21337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805680" y="4729320"/>
            <a:ext cx="54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ses Gleichungssystem hat die eindeutige Lös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857520" y="2490840"/>
            <a:ext cx="1187280" cy="1201320"/>
            <a:chOff x="857520" y="2490840"/>
            <a:chExt cx="1187280" cy="1201320"/>
          </a:xfrm>
        </p:grpSpPr>
        <p:sp>
          <p:nvSpPr>
            <p:cNvPr id="316" name=""/>
            <p:cNvSpPr/>
            <p:nvPr/>
          </p:nvSpPr>
          <p:spPr>
            <a:xfrm>
              <a:off x="857520" y="2490840"/>
              <a:ext cx="1072440" cy="12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de-CH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de-CH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CH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de-CH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de-CH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de-CH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CH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de-CH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de-CH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de-CH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CH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de-CH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de-CH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de-CH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CH" sz="1600" spc="-1" strike="noStrike" baseline="30000">
                  <a:solidFill>
                    <a:srgbClr val="000000"/>
                  </a:solidFill>
                  <a:latin typeface="Arial"/>
                </a:rPr>
                <a:t>√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CH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de-CH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CH" sz="1600" spc="-1" strike="noStrike" baseline="30000">
                  <a:solidFill>
                    <a:srgbClr val="000000"/>
                  </a:solidFill>
                  <a:latin typeface="Arial"/>
                </a:rPr>
                <a:t>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28120" y="3295800"/>
              <a:ext cx="22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15480" y="3301920"/>
              <a:ext cx="22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373640" y="2514600"/>
            <a:ext cx="2160360" cy="1207440"/>
            <a:chOff x="4373640" y="2514600"/>
            <a:chExt cx="2160360" cy="1207440"/>
          </a:xfrm>
        </p:grpSpPr>
        <p:sp>
          <p:nvSpPr>
            <p:cNvPr id="320" name=""/>
            <p:cNvSpPr/>
            <p:nvPr/>
          </p:nvSpPr>
          <p:spPr>
            <a:xfrm>
              <a:off x="4373640" y="2514600"/>
              <a:ext cx="2160360" cy="12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i="1" sz="1600" spc="-1" strike="noStrike">
                  <a:solidFill>
                    <a:srgbClr val="000000"/>
                  </a:solidFill>
                  <a:latin typeface="Arial"/>
                </a:rPr>
                <a:t> I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= log </a:t>
              </a:r>
              <a:r>
                <a:rPr b="0" lang="de-CH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de-CH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+ log </a:t>
              </a:r>
              <a:r>
                <a:rPr b="0" lang="de-CH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de-CH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i="1" sz="1600" spc="-1" strike="noStrike">
                  <a:solidFill>
                    <a:srgbClr val="000000"/>
                  </a:solidFill>
                  <a:latin typeface="Arial"/>
                </a:rPr>
                <a:t> I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= log </a:t>
              </a:r>
              <a:r>
                <a:rPr b="0" lang="de-CH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de-CH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+ log </a:t>
              </a:r>
              <a:r>
                <a:rPr b="0" lang="de-CH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de-CH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i="1" sz="1600" spc="-1" strike="noStrike">
                  <a:solidFill>
                    <a:srgbClr val="000000"/>
                  </a:solidFill>
                  <a:latin typeface="Arial"/>
                </a:rPr>
                <a:t> I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= log </a:t>
              </a:r>
              <a:r>
                <a:rPr b="0" lang="de-CH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de-CH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+ log </a:t>
              </a:r>
              <a:r>
                <a:rPr b="0" lang="de-CH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de-CH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= log </a:t>
              </a:r>
              <a:r>
                <a:rPr b="0" lang="de-CH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de-CH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+ log </a:t>
              </a:r>
              <a:r>
                <a:rPr b="0" lang="de-CH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de-CH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24400" y="3200400"/>
              <a:ext cx="51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95680" y="344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05400" y="33847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73080" y="34290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048120" y="5257800"/>
            <a:ext cx="289548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 =  ½ (-</a:t>
            </a:r>
            <a:r>
              <a:rPr b="0" i="1" lang="de-CH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de-CH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de-CH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 =  ½ (2</a:t>
            </a:r>
            <a:r>
              <a:rPr b="0" i="1" lang="de-CH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de-CH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de-CH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de-CH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 =  ½ (</a:t>
            </a:r>
            <a:r>
              <a:rPr b="0" i="1" lang="de-CH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de-CH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de-CH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 =  ½ (</a:t>
            </a:r>
            <a:r>
              <a:rPr b="0" i="1" lang="de-CH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de-CH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de-CH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rundproblem der 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ymologie:</a:t>
            </a:r>
            <a:r>
              <a:rPr b="0" lang="en-US" sz="3200" spc="-1" strike="noStrike">
                <a:solidFill>
                  <a:srgbClr val="0a32b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 dem Griechis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τομ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Schnit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γράφει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schrei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rundproblem der 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0" b="12204"/>
          <a:stretch/>
        </p:blipFill>
        <p:spPr>
          <a:xfrm>
            <a:off x="1714680" y="1738440"/>
            <a:ext cx="5715000" cy="3367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4875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Nichtinvasiver Querschnitt durch ein 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nwendungsgebiete der 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Mediz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Werkstoffprüf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Dendrochro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Ge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ff"/>
                </a:solidFill>
                <a:latin typeface="Arial"/>
              </a:rPr>
              <a:t>Gerä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85800" y="2160720"/>
            <a:ext cx="3809880" cy="3480480"/>
            <a:chOff x="685800" y="2160720"/>
            <a:chExt cx="3809880" cy="348048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685800" y="2160720"/>
              <a:ext cx="3809880" cy="30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685800" y="518148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Arial"/>
                </a:rPr>
                <a:t>Computertomograp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800600" y="2163600"/>
            <a:ext cx="3962520" cy="3477600"/>
            <a:chOff x="4800600" y="2163600"/>
            <a:chExt cx="3962520" cy="347760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4876920" y="2163600"/>
              <a:ext cx="3733560" cy="30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800600" y="51814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Arial"/>
                </a:rPr>
                <a:t>Magnetresonanztomograp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ff"/>
                </a:solidFill>
                <a:latin typeface="Arial"/>
              </a:rPr>
              <a:t>Beispi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294320" cy="45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eschichte der 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Urvater der CT: Röntgenbild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Wilhelm Conrad 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önt</a:t>
            </a: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gen (1845-1923)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1895 Entdeckung der Röngtenstrahlen (X-ray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1901 erster Physiknobelpre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Historische Aufnahme vom  23. Januar 18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Hand von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Albert von Kö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k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086600" y="4419720"/>
            <a:ext cx="13716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8:34:29Z</dcterms:created>
  <dc:creator>Office 2004 Test Drive-Benutzer</dc:creator>
  <dc:description/>
  <dc:language>en-US</dc:language>
  <cp:lastModifiedBy>siuf</cp:lastModifiedBy>
  <dcterms:modified xsi:type="dcterms:W3CDTF">2008-08-19T05:39:24Z</dcterms:modified>
  <cp:revision>49</cp:revision>
  <dc:subject/>
  <dc:title>Computertomographie</dc:title>
</cp:coreProperties>
</file>