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C19-7738-4588-92B0-56531271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D47-99DF-472D-98C7-11D98C19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271-9246-412A-B513-93575BC0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D66-978D-4606-BB02-972291C6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E87-AEF1-49DF-B3E2-C5CFFFEF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12C-8FFC-40CE-AB8A-AC244A8F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E14-7262-48DA-AB34-BA9157DD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DE6-F3F0-4DF1-B1D3-AC2340C0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439-3A20-4A51-BC36-9A0F5CD8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A42-0FEE-48F4-BFF3-AD54F259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6CE-E848-47DF-B94D-082CF6F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771-41E7-402F-9ACF-BDC88B8B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DEDB-CF15-41A7-8DE5-45B39BDD849A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333399"/>
                </a:solidFill>
                <a:latin typeface="Arial"/>
              </a:rPr>
              <a:t>Das Benfordsche Gese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Eine merkwürdige Beobachtung und ihre erstaunlichen Anwend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333399"/>
                </a:solidFill>
                <a:latin typeface="Arial"/>
              </a:rPr>
              <a:t>Benfords 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1055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81080" y="2890800"/>
            <a:ext cx="4984920" cy="3738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333399"/>
                </a:solidFill>
                <a:latin typeface="Arial"/>
              </a:rPr>
              <a:t>Benfords Gese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22520"/>
            <a:ext cx="72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Häufigkeit der Ziffer </a:t>
            </a:r>
            <a:r>
              <a:rPr b="0" i="1" lang="de-C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als führende Ziffer beträ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1654200" cy="66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Gilt Benford für Autokennzeiche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72608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Gilt Benford für Autokennzeiche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72752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Arial"/>
              </a:rPr>
              <a:t>Simon Plouffe’s Inverse Calcula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286000"/>
            <a:ext cx="784872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15’000’000 mathematische Konstanten 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http://pi.lacim.uqam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as ist </a:t>
            </a: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ff0000"/>
                </a:solidFill>
                <a:latin typeface="Arial"/>
              </a:rPr>
              <a:t>22.2992216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twort: </a:t>
            </a:r>
            <a:r>
              <a:rPr b="0" lang="de-CH" sz="2400" spc="-1" strike="noStrike">
                <a:solidFill>
                  <a:srgbClr val="ff0000"/>
                </a:solidFill>
                <a:latin typeface="Arial"/>
              </a:rPr>
              <a:t>22.2992216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4797137… = </a:t>
            </a:r>
            <a:r>
              <a:rPr b="0" i="1" lang="de-CH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CH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de-C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de-CH" sz="2400" spc="-1" strike="noStrike">
                <a:solidFill>
                  <a:srgbClr val="000000"/>
                </a:solidFill>
                <a:latin typeface="Courier New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76440" y="1598760"/>
            <a:ext cx="7586640" cy="4862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73200" y="1600200"/>
            <a:ext cx="7586640" cy="4862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3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Simon Plouffe‘s Inver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Benfordverteilung in der Bibel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660920" cy="3730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8680" y="1965240"/>
            <a:ext cx="56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uszug aus der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Elberfelder Konkordanz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Benfordverteilung in der Bibel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556560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Benfordverteilung in der Bibel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49600" y="461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6000" y="299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0120" y="1905120"/>
            <a:ext cx="689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ymbolik der Zahl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7 bedeutet Vollkommenheit oder Vollständ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7 Tage der Schöpfungswo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7 Bitten des Vaterun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7 Freuden der 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7 Gaben des heiligen Gei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7 Worte Christi am Kre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7 Todsü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7 Sakr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7 x 7 x 7 steht für Unend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assahfest und Laubhüttenfest dauern 7 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200" spc="-1" strike="noStrike">
                <a:solidFill>
                  <a:srgbClr val="333399"/>
                </a:solidFill>
                <a:latin typeface="Arial"/>
              </a:rPr>
              <a:t>Mantissengesetz von Newcom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987560"/>
            <a:ext cx="76960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000"/>
                </a:solidFill>
                <a:latin typeface="Arial"/>
              </a:rPr>
              <a:t>Die Häufigkeit von Zahlen ist so, dass die Mantissen ihrer Logarithmen gleichverteilt s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3280" y="3276720"/>
            <a:ext cx="43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ür eine reelle positive Zahl ist dab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5440" y="3838680"/>
            <a:ext cx="7086960" cy="554040"/>
            <a:chOff x="685440" y="3838680"/>
            <a:chExt cx="7086960" cy="554040"/>
          </a:xfrm>
        </p:grpSpPr>
        <p:sp>
          <p:nvSpPr>
            <p:cNvPr id="101" name=""/>
            <p:cNvSpPr/>
            <p:nvPr/>
          </p:nvSpPr>
          <p:spPr>
            <a:xfrm>
              <a:off x="685440" y="3943440"/>
              <a:ext cx="168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000000"/>
                  </a:solidFill>
                  <a:latin typeface="Arial"/>
                </a:rPr>
                <a:t>Mantisse v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rcRect l="27617" t="0" r="0" b="0"/>
            <a:stretch/>
          </p:blipFill>
          <p:spPr>
            <a:xfrm>
              <a:off x="2324160" y="3838680"/>
              <a:ext cx="5448240" cy="5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686520" y="471816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eispie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57320" y="4713120"/>
            <a:ext cx="2989440" cy="4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333399"/>
                </a:solidFill>
                <a:latin typeface="Arial"/>
              </a:rPr>
              <a:t>Was Sie erwar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as sagt das Benfordsche Gesetz und wie wurde es gef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in bisschen Mathe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nd topaktuelle Anwendungen! (Forensische Mathema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43726" r="0" b="43726"/>
          <a:stretch/>
        </p:blipFill>
        <p:spPr>
          <a:xfrm>
            <a:off x="990720" y="1905120"/>
            <a:ext cx="7173720" cy="555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43726" r="0" b="43726"/>
          <a:stretch/>
        </p:blipFill>
        <p:spPr>
          <a:xfrm>
            <a:off x="984240" y="3657600"/>
            <a:ext cx="7174080" cy="555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200" spc="-1" strike="noStrike">
                <a:solidFill>
                  <a:srgbClr val="333399"/>
                </a:solidFill>
                <a:latin typeface="Arial"/>
              </a:rPr>
              <a:t>Mantissengesetz von Newcom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14800" y="2666880"/>
            <a:ext cx="598320" cy="990720"/>
            <a:chOff x="4114800" y="2666880"/>
            <a:chExt cx="598320" cy="990720"/>
          </a:xfrm>
        </p:grpSpPr>
        <p:sp>
          <p:nvSpPr>
            <p:cNvPr id="109" name=""/>
            <p:cNvSpPr/>
            <p:nvPr/>
          </p:nvSpPr>
          <p:spPr>
            <a:xfrm>
              <a:off x="4114800" y="2666880"/>
              <a:ext cx="0" cy="990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2560" y="28954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lo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114800" y="4267080"/>
            <a:ext cx="808200" cy="990720"/>
            <a:chOff x="4114800" y="4267080"/>
            <a:chExt cx="808200" cy="990720"/>
          </a:xfrm>
        </p:grpSpPr>
        <p:sp>
          <p:nvSpPr>
            <p:cNvPr id="112" name=""/>
            <p:cNvSpPr/>
            <p:nvPr/>
          </p:nvSpPr>
          <p:spPr>
            <a:xfrm>
              <a:off x="4114800" y="4267080"/>
              <a:ext cx="0" cy="990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16240" y="4578480"/>
              <a:ext cx="8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ff"/>
                  </a:solidFill>
                  <a:latin typeface="Arial"/>
                </a:rPr>
                <a:t>〈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 </a:t>
              </a:r>
              <a:r>
                <a:rPr b="0" lang="zh-CN" sz="2000" spc="-1" strike="noStrike">
                  <a:solidFill>
                    <a:srgbClr val="0000ff"/>
                  </a:solidFill>
                  <a:latin typeface="Arial"/>
                </a:rPr>
                <a:t>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Macintosh HD:Users:ulrikebeer:Desktop:test1.gif" descr=""/>
          <p:cNvPicPr/>
          <p:nvPr/>
        </p:nvPicPr>
        <p:blipFill>
          <a:blip r:embed="rId3"/>
          <a:stretch/>
        </p:blipFill>
        <p:spPr>
          <a:xfrm>
            <a:off x="990720" y="5288040"/>
            <a:ext cx="7543800" cy="14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5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400" spc="-1" strike="noStrike">
                <a:solidFill>
                  <a:srgbClr val="333399"/>
                </a:solidFill>
                <a:latin typeface="Arial"/>
              </a:rPr>
              <a:t>Folgerungen aus dem Mantissengeset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2152800"/>
            <a:ext cx="3648240" cy="368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4640" y="3048120"/>
            <a:ext cx="47678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ginnt mit Zi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3333"/>
          <a:stretch/>
        </p:blipFill>
        <p:spPr>
          <a:xfrm>
            <a:off x="2590920" y="4606920"/>
            <a:ext cx="3047760" cy="2249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400" spc="-1" strike="noStrike">
                <a:solidFill>
                  <a:srgbClr val="333399"/>
                </a:solidFill>
                <a:latin typeface="Arial"/>
              </a:rPr>
              <a:t>Folgerungen aus dem Mantissengeset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114800" y="2438280"/>
            <a:ext cx="598320" cy="761760"/>
            <a:chOff x="4114800" y="2438280"/>
            <a:chExt cx="598320" cy="761760"/>
          </a:xfrm>
        </p:grpSpPr>
        <p:sp>
          <p:nvSpPr>
            <p:cNvPr id="121" name=""/>
            <p:cNvSpPr/>
            <p:nvPr/>
          </p:nvSpPr>
          <p:spPr>
            <a:xfrm>
              <a:off x="4114800" y="2438280"/>
              <a:ext cx="0" cy="761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2560" y="259056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lo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14800" y="3962520"/>
            <a:ext cx="808200" cy="609480"/>
            <a:chOff x="4114800" y="3962520"/>
            <a:chExt cx="808200" cy="609480"/>
          </a:xfrm>
        </p:grpSpPr>
        <p:sp>
          <p:nvSpPr>
            <p:cNvPr id="124" name=""/>
            <p:cNvSpPr/>
            <p:nvPr/>
          </p:nvSpPr>
          <p:spPr>
            <a:xfrm>
              <a:off x="4114800" y="3962520"/>
              <a:ext cx="0" cy="609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6240" y="4114800"/>
              <a:ext cx="80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ff"/>
                  </a:solidFill>
                  <a:latin typeface="Arial"/>
                </a:rPr>
                <a:t>〈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. </a:t>
              </a:r>
              <a:r>
                <a:rPr b="0" lang="zh-CN" sz="2000" spc="-1" strike="noStrike">
                  <a:solidFill>
                    <a:srgbClr val="0000ff"/>
                  </a:solidFill>
                  <a:latin typeface="Arial"/>
                </a:rPr>
                <a:t>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818160" y="15922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09480" y="3438360"/>
            <a:ext cx="7469280" cy="373320"/>
            <a:chOff x="609480" y="3438360"/>
            <a:chExt cx="7469280" cy="37332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rcRect l="0" t="47632" r="0" b="47632"/>
            <a:stretch/>
          </p:blipFill>
          <p:spPr>
            <a:xfrm>
              <a:off x="609480" y="3438360"/>
              <a:ext cx="746928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407600" y="35352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25720" y="3535200"/>
              <a:ext cx="64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 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9120" y="3535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96400" y="353520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9600" y="3535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720" y="3535200"/>
              <a:ext cx="5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 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537240" y="528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rcRect l="0" t="0" r="67556" b="0"/>
          <a:stretch/>
        </p:blipFill>
        <p:spPr>
          <a:xfrm>
            <a:off x="5965920" y="5140440"/>
            <a:ext cx="1272960" cy="34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rcRect l="30280" t="0" r="0" b="0"/>
          <a:stretch/>
        </p:blipFill>
        <p:spPr>
          <a:xfrm>
            <a:off x="5867280" y="5562720"/>
            <a:ext cx="2737080" cy="345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836640" y="1859040"/>
            <a:ext cx="7469280" cy="505080"/>
            <a:chOff x="836640" y="1859040"/>
            <a:chExt cx="7469280" cy="505080"/>
          </a:xfrm>
        </p:grpSpPr>
        <p:pic>
          <p:nvPicPr>
            <p:cNvPr id="139" name="" descr=""/>
            <p:cNvPicPr/>
            <p:nvPr/>
          </p:nvPicPr>
          <p:blipFill>
            <a:blip r:embed="rId5"/>
            <a:srcRect l="0" t="47632" r="0" b="47632"/>
            <a:stretch/>
          </p:blipFill>
          <p:spPr>
            <a:xfrm>
              <a:off x="836640" y="1989000"/>
              <a:ext cx="746928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095120" y="18590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37240" y="21178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50000" y="21178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87520" y="21178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38080" y="21178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5080" y="2117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93400" y="21178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400" spc="-1" strike="noStrike">
                <a:solidFill>
                  <a:srgbClr val="333399"/>
                </a:solidFill>
                <a:latin typeface="Arial"/>
              </a:rPr>
              <a:t>Folgerungen aus dem Mantissengeset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6880" y="1911240"/>
            <a:ext cx="4342320" cy="398880"/>
            <a:chOff x="686880" y="1911240"/>
            <a:chExt cx="4342320" cy="398880"/>
          </a:xfrm>
        </p:grpSpPr>
        <p:sp>
          <p:nvSpPr>
            <p:cNvPr id="149" name=""/>
            <p:cNvSpPr/>
            <p:nvPr/>
          </p:nvSpPr>
          <p:spPr>
            <a:xfrm>
              <a:off x="686880" y="1911240"/>
              <a:ext cx="21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000000"/>
                  </a:solidFill>
                  <a:latin typeface="Arial"/>
                </a:rPr>
                <a:t>Es folgt somit fü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2771640" y="1917720"/>
              <a:ext cx="2257560" cy="39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>
            <a:off x="1600200" y="4867200"/>
            <a:ext cx="571500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enford’s first significant digit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233360" y="2666880"/>
            <a:ext cx="2163960" cy="365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430440" y="2590920"/>
            <a:ext cx="4875480" cy="533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2889360" y="3270240"/>
            <a:ext cx="5416560" cy="396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889360" y="3733920"/>
            <a:ext cx="541656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400" spc="-1" strike="noStrike">
                <a:solidFill>
                  <a:srgbClr val="333399"/>
                </a:solidFill>
                <a:latin typeface="Arial"/>
              </a:rPr>
              <a:t>Folgerungen aus dem Mantissengeset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9760" y="1863720"/>
            <a:ext cx="791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alog behandelt man Sequenzen von führenden Ziff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6160" y="4564080"/>
            <a:ext cx="179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 be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443400"/>
            <a:ext cx="9144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ginnt mit Ziffernfol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90920" y="5113440"/>
            <a:ext cx="4076640" cy="75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400" spc="-1" strike="noStrike">
                <a:solidFill>
                  <a:srgbClr val="333399"/>
                </a:solidFill>
                <a:latin typeface="Arial"/>
              </a:rPr>
              <a:t>Aufgab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23760" y="1862280"/>
            <a:ext cx="74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Wie gross ist die Wahrscheinlichkeit, dass die dritte Ziffer </a:t>
            </a:r>
            <a:r>
              <a:rPr b="0" i="1" lang="de-CH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s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Wie gross ist die bedingte Wahrscheinlichkeit, dass die zweite Ziffer </a:t>
            </a:r>
            <a:r>
              <a:rPr b="0" i="1" lang="de-CH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ist, unter der Bedingung, dass die erste Ziffer </a:t>
            </a:r>
            <a:r>
              <a:rPr b="0" i="1" lang="de-CH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49600" y="461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1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400" spc="-1" strike="noStrike">
                <a:solidFill>
                  <a:srgbClr val="333399"/>
                </a:solidFill>
                <a:latin typeface="Arial"/>
              </a:rPr>
              <a:t>Allgemeines Benfordsches Geset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1800" y="1862280"/>
            <a:ext cx="722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Die Überlegung lässt sich verallgemeiner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160" y="4572000"/>
            <a:ext cx="153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Es gilt al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1800" y="5248440"/>
            <a:ext cx="7924680" cy="429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ff0000"/>
                </a:solidFill>
                <a:latin typeface="Arial"/>
              </a:rPr>
              <a:t>Satz</a:t>
            </a:r>
            <a:r>
              <a:rPr b="0" lang="de-CH" sz="2200" spc="-1" strike="noStrike">
                <a:solidFill>
                  <a:srgbClr val="ff0000"/>
                </a:solidFill>
                <a:latin typeface="Arial"/>
              </a:rPr>
              <a:t>  Mantissengesetz  ⇒  allgemeines Benfordsches Gese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31800" y="2633760"/>
            <a:ext cx="7902720" cy="1590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630720" y="5854680"/>
            <a:ext cx="731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conis hat 1977 gezeigt, dass auch die Umkehrung gi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3320" y="51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31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400" spc="-1" strike="noStrike">
                <a:solidFill>
                  <a:srgbClr val="333399"/>
                </a:solidFill>
                <a:latin typeface="Arial"/>
              </a:rPr>
              <a:t>Allgemeines Benfordsches Geset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1800" y="1862280"/>
            <a:ext cx="722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Die Basis 10 ist in keiner Weise ausgezeichn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1800" y="2633760"/>
            <a:ext cx="7902720" cy="1590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174" name=""/>
          <p:cNvGrpSpPr/>
          <p:nvPr/>
        </p:nvGrpSpPr>
        <p:grpSpPr>
          <a:xfrm>
            <a:off x="2331720" y="3116160"/>
            <a:ext cx="320760" cy="429120"/>
            <a:chOff x="2331720" y="3116160"/>
            <a:chExt cx="320760" cy="429120"/>
          </a:xfrm>
        </p:grpSpPr>
        <p:sp>
          <p:nvSpPr>
            <p:cNvPr id="175" name=""/>
            <p:cNvSpPr/>
            <p:nvPr/>
          </p:nvSpPr>
          <p:spPr>
            <a:xfrm>
              <a:off x="2349360" y="3209760"/>
              <a:ext cx="247680" cy="22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1720" y="311616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913280" y="3740040"/>
            <a:ext cx="320760" cy="429120"/>
            <a:chOff x="4913280" y="3740040"/>
            <a:chExt cx="320760" cy="429120"/>
          </a:xfrm>
        </p:grpSpPr>
        <p:sp>
          <p:nvSpPr>
            <p:cNvPr id="178" name=""/>
            <p:cNvSpPr/>
            <p:nvPr/>
          </p:nvSpPr>
          <p:spPr>
            <a:xfrm>
              <a:off x="4930920" y="3833640"/>
              <a:ext cx="247680" cy="22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13280" y="374004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400" spc="-1" strike="noStrike">
                <a:solidFill>
                  <a:srgbClr val="333399"/>
                </a:solidFill>
                <a:latin typeface="Arial"/>
              </a:rPr>
              <a:t>Skaleninvarian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82880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0000"/>
                </a:solidFill>
                <a:latin typeface="Arial"/>
              </a:rPr>
              <a:t>Satz</a:t>
            </a:r>
            <a:r>
              <a:rPr b="0" lang="de-CH" sz="2000" spc="-1" strike="noStrike">
                <a:solidFill>
                  <a:srgbClr val="ff0000"/>
                </a:solidFill>
                <a:latin typeface="Arial"/>
              </a:rPr>
              <a:t> Ist </a:t>
            </a:r>
            <a:r>
              <a:rPr b="0" i="1" lang="de-CH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ff0000"/>
                </a:solidFill>
                <a:latin typeface="Arial"/>
              </a:rPr>
              <a:t> eine positive Zufallsvariable für welche </a:t>
            </a:r>
            <a:r>
              <a:rPr b="0" lang="de-CH" sz="2000" spc="-1" strike="noStrike">
                <a:solidFill>
                  <a:srgbClr val="ff0000"/>
                </a:solidFill>
                <a:latin typeface="Arial"/>
              </a:rPr>
              <a:t>〈</a:t>
            </a:r>
            <a:r>
              <a:rPr b="0" lang="de-CH" sz="2000" spc="-1" strike="noStrike">
                <a:solidFill>
                  <a:srgbClr val="ff0000"/>
                </a:solidFill>
                <a:latin typeface="Arial"/>
              </a:rPr>
              <a:t>log </a:t>
            </a:r>
            <a:r>
              <a:rPr b="0" i="1" lang="de-CH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ff0000"/>
                </a:solidFill>
                <a:latin typeface="Arial"/>
              </a:rPr>
              <a:t>〉 </a:t>
            </a:r>
            <a:r>
              <a:rPr b="0" lang="de-CH" sz="2000" spc="-1" strike="noStrike">
                <a:solidFill>
                  <a:srgbClr val="ff0000"/>
                </a:solidFill>
                <a:latin typeface="Arial"/>
              </a:rPr>
              <a:t>gleichverteilt ist, so gilt dies auch für </a:t>
            </a:r>
            <a:r>
              <a:rPr b="0" lang="de-CH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de-CH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ff0000"/>
                </a:solidFill>
                <a:latin typeface="Arial"/>
              </a:rPr>
              <a:t>, wenn </a:t>
            </a:r>
            <a:r>
              <a:rPr b="0" lang="de-CH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de-CH" sz="2000" spc="-1" strike="noStrike">
                <a:solidFill>
                  <a:srgbClr val="ff0000"/>
                </a:solidFill>
                <a:latin typeface="Arial"/>
              </a:rPr>
              <a:t> &gt; 0.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nders gesagt: Gehorcht 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dem Benford-Gesetz, so auch </a:t>
            </a:r>
            <a:r>
              <a:rPr b="0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240" y="3322800"/>
            <a:ext cx="49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eweis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og(</a:t>
            </a:r>
            <a:r>
              <a:rPr b="0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〉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+ log 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393048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atsächlich gilt sogar meh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0000"/>
                </a:solidFill>
                <a:latin typeface="Arial"/>
              </a:rPr>
              <a:t>Satz</a:t>
            </a:r>
            <a:r>
              <a:rPr b="0" lang="de-CH" sz="2000" spc="-1" strike="noStrike">
                <a:solidFill>
                  <a:srgbClr val="ff0000"/>
                </a:solidFill>
                <a:latin typeface="Arial"/>
              </a:rPr>
              <a:t>   Benfords Gesetz  ⇔  Skaleninvari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eweis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 Sei 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eine positive Zufallsvariable. Dann gi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og(</a:t>
            </a:r>
            <a:r>
              <a:rPr b="0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〉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hat eine von </a:t>
            </a:r>
            <a:r>
              <a:rPr b="0" lang="de-CH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&gt; 0 unabhängige Verteilung 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auf [0,1] dann und nur dann, wenn 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die Gleichverteilung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828800"/>
            <a:ext cx="78487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470480"/>
            <a:ext cx="78487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Gilt Benford für Autokennzeiche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240" y="168264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68360" y="2244600"/>
            <a:ext cx="5267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=  { </a:t>
            </a:r>
            <a:r>
              <a:rPr b="0" i="1" lang="de-CH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de-CH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ist ein Kennzeichen im Kanton Z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CH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=  { </a:t>
            </a:r>
            <a:r>
              <a:rPr b="0" i="1" lang="de-CH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CH" sz="2000" spc="-1" strike="noStrike" baseline="-2000">
                <a:solidFill>
                  <a:srgbClr val="000000"/>
                </a:solidFill>
                <a:latin typeface="Times New Roman"/>
              </a:rPr>
              <a:t>∈ 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de-CH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eginnt mit Ziffer </a:t>
            </a:r>
            <a:r>
              <a:rPr b="0" i="1" lang="de-CH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19320" y="3081240"/>
            <a:ext cx="1461960" cy="695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4000" y="3962520"/>
            <a:ext cx="50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ufzählung der Zahlen, die mit 1 begin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0400" y="464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1,  10,  11,  … ,  19,  100,  101,  … , 199,  1000, 1001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8769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4876920"/>
            <a:ext cx="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2120" y="5048280"/>
            <a:ext cx="457200" cy="337320"/>
            <a:chOff x="762120" y="5048280"/>
            <a:chExt cx="457200" cy="337320"/>
          </a:xfrm>
        </p:grpSpPr>
        <p:sp>
          <p:nvSpPr>
            <p:cNvPr id="197" name=""/>
            <p:cNvSpPr/>
            <p:nvPr/>
          </p:nvSpPr>
          <p:spPr>
            <a:xfrm>
              <a:off x="762120" y="533412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6640" y="504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5442120"/>
            <a:ext cx="2514600" cy="337320"/>
            <a:chOff x="762120" y="5442120"/>
            <a:chExt cx="2514600" cy="337320"/>
          </a:xfrm>
        </p:grpSpPr>
        <p:sp>
          <p:nvSpPr>
            <p:cNvPr id="200" name=""/>
            <p:cNvSpPr/>
            <p:nvPr/>
          </p:nvSpPr>
          <p:spPr>
            <a:xfrm>
              <a:off x="762120" y="5715000"/>
              <a:ext cx="2514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09480" y="54421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62120" y="5975280"/>
            <a:ext cx="4952880" cy="337320"/>
            <a:chOff x="762120" y="5975280"/>
            <a:chExt cx="4952880" cy="337320"/>
          </a:xfrm>
        </p:grpSpPr>
        <p:sp>
          <p:nvSpPr>
            <p:cNvPr id="203" name=""/>
            <p:cNvSpPr/>
            <p:nvPr/>
          </p:nvSpPr>
          <p:spPr>
            <a:xfrm>
              <a:off x="762120" y="6248520"/>
              <a:ext cx="4952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4480" y="597528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333399"/>
                </a:solidFill>
                <a:latin typeface="Arial"/>
              </a:rPr>
              <a:t>Metaz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ie funktioniert Wissenschaft/Mathe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thematische Modelle aufstellen, diskutieren und hinterf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nterschied zwischen </a:t>
            </a: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Wirklichkeit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0" lang="de-CH" sz="2400" spc="-1" strike="noStrike">
                <a:solidFill>
                  <a:srgbClr val="009999"/>
                </a:solidFill>
                <a:latin typeface="Arial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nterschied zwischen einem </a:t>
            </a: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phänomenologischen Gesetz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einem </a:t>
            </a:r>
            <a:r>
              <a:rPr b="0" lang="de-CH" sz="2400" spc="-1" strike="noStrike">
                <a:solidFill>
                  <a:srgbClr val="009999"/>
                </a:solidFill>
                <a:latin typeface="Arial"/>
              </a:rPr>
              <a:t>mathematischen S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turaarbeiten in Mathematik motiv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9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Gilt Benford für Autokennzeiche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960" y="1660680"/>
            <a:ext cx="76359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Hat der Kanton z.B. 199 Kennzeichen, so 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CH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 = 111/199 = 0.5577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Hat der Kanton z.B. 999 Kennzeichen, so 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CH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 = 111/999 = 1/9 = 0.1111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Für einen einzelnen Kanton gilt also das Benfordsche Gesetz ausdrücklich 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nicht</a:t>
            </a: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69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Gilt Benford für Autokennzeiche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9960" y="1660680"/>
            <a:ext cx="778824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Aber warum gilt es dann für eine Mischung von Kanton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Die Antwort ist ein tieferliegender Satz. Vereinfacht lautet 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0000"/>
                </a:solidFill>
                <a:latin typeface="Arial"/>
              </a:rPr>
              <a:t>Satz</a:t>
            </a:r>
            <a:r>
              <a:rPr b="0" lang="de-CH" sz="2000" spc="-1" strike="noStrike">
                <a:solidFill>
                  <a:srgbClr val="ff0000"/>
                </a:solidFill>
                <a:latin typeface="Arial"/>
              </a:rPr>
              <a:t>  Wählt man zufällig Wahrscheinlichkeitsverteilungen und dann entsprechend verteilte Daten, so folgt die resultierende Verteilung dem Benford-Gese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Theodore P. Hil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tistical derivation of the significant-digit law. Statistical Science,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 1995 (10/4) 354-3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95920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69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Allgemeines Vorgeh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960" y="1660680"/>
            <a:ext cx="778824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Was ist zu tun, wenn man von einer Zufallsvariable </a:t>
            </a:r>
            <a:r>
              <a:rPr b="0" i="1" lang="de-CH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 wissen will, ob sie dem Benfordschen Gesetz gehorch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Da das Benfordsche Gesetz aus dem Mantissengesetz folgt, muss man nur nachprüfen, ob </a:t>
            </a: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de-CH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〉 </a:t>
            </a: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gleichverteilt 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Man findet, dass viele Verteilungen zumindest näherungsweise diese Bedingung erfüll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Benford-Folg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952640"/>
            <a:ext cx="75438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att Zufallszahlen kann man auch Zahlenfolgen betracht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 1, 1, 2, 3, 5, 8, 13, 21, 34, 55, 89, 144, 233, 377, 610, 987, 1597, 2584, 4181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ies ist die Fibonacci-Folge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ter den ersten 100 Folgegliedern beginnen 30 mit Ziffer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18 mit Ziffer 2, … und 4 mit Ziffer 9. In Prozenten ergibt 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*www.research.att.com/~njas/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143000" y="5622840"/>
          <a:ext cx="6791400" cy="334800"/>
        </p:xfrm>
        <a:graphic>
          <a:graphicData uri="http://schemas.openxmlformats.org/drawingml/2006/table">
            <a:tbl>
              <a:tblPr/>
              <a:tblGrid>
                <a:gridCol w="1523880"/>
                <a:gridCol w="609840"/>
                <a:gridCol w="609480"/>
                <a:gridCol w="609480"/>
                <a:gridCol w="533520"/>
                <a:gridCol w="609480"/>
                <a:gridCol w="533520"/>
                <a:gridCol w="609480"/>
                <a:gridCol w="533520"/>
                <a:gridCol w="619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ford-W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143000" y="4952880"/>
          <a:ext cx="6791400" cy="669960"/>
        </p:xfrm>
        <a:graphic>
          <a:graphicData uri="http://schemas.openxmlformats.org/drawingml/2006/table">
            <a:tbl>
              <a:tblPr/>
              <a:tblGrid>
                <a:gridCol w="1523880"/>
                <a:gridCol w="609840"/>
                <a:gridCol w="609480"/>
                <a:gridCol w="609480"/>
                <a:gridCol w="533520"/>
                <a:gridCol w="609480"/>
                <a:gridCol w="533520"/>
                <a:gridCol w="609480"/>
                <a:gridCol w="533520"/>
                <a:gridCol w="619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zif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Benford-Folg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952640"/>
            <a:ext cx="759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as Ergebnis ist kein Zufall. Die Approximation an die Benford-Werte wird immer besser, wenn man die Zahl der Glieder erhöht. Man kann von vielen Zahlenfolgen beweisen, dass sie diese Benford-Eigenschaft besit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3429000"/>
            <a:ext cx="3406680" cy="1892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 u="sng">
                <a:solidFill>
                  <a:srgbClr val="000000"/>
                </a:solidFill>
                <a:uFillTx/>
                <a:latin typeface="Arial"/>
              </a:rPr>
              <a:t>Benford-Fo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ibonacci-Fol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CH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Geometrische Folge </a:t>
            </a:r>
            <a:r>
              <a:rPr b="0" i="1" lang="de-CH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de-CH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falls log </a:t>
            </a:r>
            <a:r>
              <a:rPr b="0" i="1" lang="de-CH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irrational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46600" y="3429000"/>
            <a:ext cx="3406680" cy="1831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 u="sng">
                <a:solidFill>
                  <a:srgbClr val="000000"/>
                </a:solidFill>
                <a:uFillTx/>
                <a:latin typeface="Arial"/>
              </a:rPr>
              <a:t>Keine Benford-Fo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imzahlfol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CH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de-CH" sz="24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rithmetische Folgen beliebiger 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71500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Nimmt man statt dem Mittel das sogenannte harmonische Mittel, so zeigen viel mehr Folgen die Benford-Eigenscha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Benford-Folg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49600" y="461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16000" y="299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952640"/>
            <a:ext cx="7543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Wie beweist man von einer Folge 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de-CH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, dass sie die Benford-Eigenschaft 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Wie bei Zufallszahlen zeigt man, dass die Folge 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de-CH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de-CH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de-CH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〉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gleichverteilt ist, d.h. dass sie eine sogenannte Weyl-Folge 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333399"/>
                </a:solidFill>
                <a:latin typeface="Arial"/>
              </a:rPr>
              <a:t>Anwendungen von Benfords Gese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2270160"/>
            <a:ext cx="80928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ufdeckung von Fälschungen (Bilanzen, Labordaten usw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ufdeckung von Steuerbet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Optimierung von Algorithmen fü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ing point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Oper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atenk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est für Prognose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o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333399"/>
                </a:solidFill>
                <a:latin typeface="Arial"/>
              </a:rPr>
              <a:t>Anwendungen von Benfords Gese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19384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Anwend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nish fire insuranc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2167 Schadenfälle über einer Million Kronen (19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3520" y="3441600"/>
            <a:ext cx="3511440" cy="2121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952880" y="3517920"/>
            <a:ext cx="3511800" cy="21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333399"/>
                </a:solidFill>
                <a:latin typeface="Arial"/>
              </a:rPr>
              <a:t>Anwendungen von Benfords Gese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472428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333399"/>
                </a:solidFill>
                <a:latin typeface="Arial"/>
              </a:rPr>
              <a:t>Wer noch mehr wissen wil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educ.ethz.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645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all, folks. Thank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ellenwert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Loga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atistik (Hist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ahrscheinlichkeitsre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mulationen und Experi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333399"/>
                </a:solidFill>
                <a:latin typeface="Arial"/>
              </a:rPr>
              <a:t>Haupt- und Nebendarste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04600" y="1981080"/>
            <a:ext cx="5318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iograph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http://turnbull.mcs.st-and.ac.uk/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333399"/>
                </a:solidFill>
                <a:latin typeface="Arial"/>
              </a:rPr>
              <a:t>Ein bisschen Geschich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2455920" cy="4259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07120" y="1986120"/>
            <a:ext cx="434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imon Newco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merikanischer Astronom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thematiker (1835 - 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800" spc="-1" strike="noStrike">
                <a:solidFill>
                  <a:srgbClr val="333399"/>
                </a:solidFill>
                <a:latin typeface="Arial"/>
              </a:rPr>
              <a:t>Eine merkwürdige Beobachtung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57800" y="21337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vorderen Seiten einer Logarithmentafel sind stärker abgenutzt als die hinte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333399"/>
                </a:solidFill>
                <a:latin typeface="Arial"/>
              </a:rPr>
              <a:t>Logarithmentafel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82680" y="3276720"/>
            <a:ext cx="6400800" cy="29383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1816200" y="1969920"/>
            <a:ext cx="1108440" cy="1459080"/>
            <a:chOff x="1816200" y="1969920"/>
            <a:chExt cx="1108440" cy="1459080"/>
          </a:xfrm>
        </p:grpSpPr>
        <p:sp>
          <p:nvSpPr>
            <p:cNvPr id="59" name=""/>
            <p:cNvSpPr/>
            <p:nvPr/>
          </p:nvSpPr>
          <p:spPr>
            <a:xfrm>
              <a:off x="1819080" y="1969920"/>
              <a:ext cx="11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ume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16200" y="20574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273400" y="2643120"/>
            <a:ext cx="3013560" cy="785880"/>
            <a:chOff x="2273400" y="2643120"/>
            <a:chExt cx="3013560" cy="785880"/>
          </a:xfrm>
        </p:grpSpPr>
        <p:sp>
          <p:nvSpPr>
            <p:cNvPr id="62" name=""/>
            <p:cNvSpPr/>
            <p:nvPr/>
          </p:nvSpPr>
          <p:spPr>
            <a:xfrm>
              <a:off x="2277720" y="2643120"/>
              <a:ext cx="30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(Mantisse des) </a:t>
              </a:r>
              <a:r>
                <a:rPr b="1" lang="de-CH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ogarithm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73400" y="2743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675840" y="2482920"/>
            <a:ext cx="1637640" cy="946080"/>
            <a:chOff x="6675840" y="2482920"/>
            <a:chExt cx="1637640" cy="946080"/>
          </a:xfrm>
        </p:grpSpPr>
        <p:sp>
          <p:nvSpPr>
            <p:cNvPr id="65" name=""/>
            <p:cNvSpPr/>
            <p:nvPr/>
          </p:nvSpPr>
          <p:spPr>
            <a:xfrm>
              <a:off x="6675840" y="2482920"/>
              <a:ext cx="163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rt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roport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9276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2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333399"/>
                </a:solidFill>
                <a:latin typeface="Arial"/>
              </a:rPr>
              <a:t>Als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244600"/>
            <a:ext cx="7620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ahlen mit niedrigen Anfangsziffern werden häufiger nachgeschl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kommt am </a:t>
            </a: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häufigst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als Anfangsziffer vor, die </a:t>
            </a:r>
            <a:r>
              <a:rPr b="0" lang="de-CH" sz="24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am </a:t>
            </a:r>
            <a:r>
              <a:rPr b="0" lang="de-CH" sz="2400" spc="-1" strike="noStrike">
                <a:solidFill>
                  <a:srgbClr val="009999"/>
                </a:solidFill>
                <a:latin typeface="Arial"/>
              </a:rPr>
              <a:t>seltenst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57600" y="1981080"/>
            <a:ext cx="5029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Biograph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http://turnbull.mcs.st-and.ac.uk/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333399"/>
                </a:solidFill>
                <a:latin typeface="Arial"/>
              </a:rPr>
              <a:t>Viele Jahre spä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780"/>
          <a:stretch/>
        </p:blipFill>
        <p:spPr>
          <a:xfrm>
            <a:off x="685800" y="1981080"/>
            <a:ext cx="2664000" cy="3988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57600" y="198108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Frank Benf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</a:rPr>
              <a:t>Amerikanischer Physiker bei General Electric (1883 - 194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6:03:45Z</dcterms:created>
  <dc:creator>siuf</dc:creator>
  <dc:description/>
  <dc:language>en-US</dc:language>
  <cp:lastModifiedBy>siuf</cp:lastModifiedBy>
  <dcterms:modified xsi:type="dcterms:W3CDTF">2008-09-08T15:07:22Z</dcterms:modified>
  <cp:revision>233</cp:revision>
  <dc:subject/>
  <dc:title>Das Benfordsche Gesetz</dc:title>
</cp:coreProperties>
</file>